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18C-6D50-468C-8524-E30F411C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635-AA54-4201-A565-51B814C6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F7C-39DF-4C77-B56F-6C29A5CD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88E-26BC-4197-9BA8-EF8FAC7C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315-B109-4021-9E8C-FB0D5A7F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6B6-4A72-4026-B257-53BD6475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4E3-7EC4-499A-A55B-59514417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890-2189-490B-B79A-199CCF3E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180-7D08-4371-8631-2B994002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219-C3BB-4572-B9CB-870405D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3F6-11B7-49A2-B3E6-04A1A6B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33B-809F-411C-917D-63A4897C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7CD8-4989-47E0-864B-F650B0F1C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68520" y="1730160"/>
            <a:ext cx="7022880" cy="24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Beyond the Basal: Examining Tex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5080" y="4551120"/>
            <a:ext cx="661500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significant learning occurs without a significant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!" -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James C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aking a Critical Look at the Proce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144440" y="1828800"/>
            <a:ext cx="880128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some things teachers need to consider about readabil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might a child be able to navigate a text with a readability above his/her reading le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lse do we need to consider along with readability when matching books and reader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Achievement Ga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06400" y="2082960"/>
            <a:ext cx="8462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2005, the percentage of Caucasian 4th graders who met or exceeded state learning outcomes for reading was 78%. Only 44% of the Hispanic and 35% of African American students met or exceeded the outcomes. For eighth grade, 85% of the Caucasian students met or exceeded standards compared to 65% of Hispanic and 53% African American students (National Center for Educational Statistics, 2005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More Stat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06400" y="2082960"/>
            <a:ext cx="8462880" cy="44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Illinois, the number of students with Limited English Proficiency has risen to over 190,000, an 80% increase in the past ten years (National Clearing House for English Language Acquisition, 2005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predominantly spoken language is Spanis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rease in non-English speaking students has classroom teachers looking for ways to teach these students in ways that are culturally 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nds of Knowled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6400" y="2082960"/>
            <a:ext cx="8462880" cy="31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ds of knowledge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ansive cognitive resources that children and their families have available that could be used in the classro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is to better match the students’ home backgrounds and literacies with the practices of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can use the language, culture and customs of their students as a springboard for 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dson-Billings,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ocultutal/Sociolinguistic Learning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806400" y="2082960"/>
            <a:ext cx="8462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ldren are active lear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cy practices are reflective of 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ldren enact their social and cultural identities through lite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nguage and thought are re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 the Classroom: Beyond the Heroes and Holiday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06400" y="2082960"/>
            <a:ext cx="846288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Community Literac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ich literacy experiences children bring to the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tors/ interpreters, conversations,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k tales and familiar sto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exts: music, art, drama,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ooks, poems, text (pictures, characters, stories) portraying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 students’ cultural values in readings (rhythm, family li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evels of Approach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06400" y="2082960"/>
            <a:ext cx="846288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ibutions (holidays, crafts, custom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thnic Additive (multicultural themes are approached but not embedded in the curriculum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ansformation (curriculum is changed to allow perspectives of diverse cultures to be represent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cial Action (children identify social problems through literature and seek solution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ulticultural Litera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806400" y="2082960"/>
            <a:ext cx="846288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bout African Americans, Asian Americans, Native Americans, and Latino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ooks by and about women, religious groups, regional groups, gender groups and people with disabilitie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terature that represents voices outside of the traditional canon of literature used in the classroom or that of the dominant cult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Bishop, 199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indows and Mirror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06400" y="1405080"/>
            <a:ext cx="84628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ers can read the world around them through text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ers can learn about others and themselv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s can be windows into the lives and experiences of oth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s can be mirrors, reflecting our own lives and experiences Reading can becomes a means of self-affirmation. Readers may seek their mirrors in book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xamining Tex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06400" y="1574640"/>
            <a:ext cx="846288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en children cannot find themselves reflected in the books they read, or when the images they see are distorted, negative, or laughable, they learn a powerful lesson about how they are devalued in the society of which they are a part. Our classrooms need to be places where all the children from all the cultures that make up the salad bowl of American society can find their mirror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dine Sims Bishop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irrors, Windows and Sliding Glass Door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Aloud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ncess Grace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Mary Hoff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806400" y="2082960"/>
            <a:ext cx="8462880" cy="36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Children’s Lit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uss Readability and how it affects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ext Sets and discuss how they can be used in the classro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Inquiry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Inquiry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06400" y="2082960"/>
            <a:ext cx="84628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with a partner and fill out the Matr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your book with the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727200"/>
            <a:ext cx="7545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tructuring your Classroo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22160" y="2166840"/>
            <a:ext cx="846144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to know your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cover your students’ home literacies (Remember, these may not be “school” literacie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sure students’ prior knowledge and interest in independent read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tructuring your Classroo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06400" y="2082960"/>
            <a:ext cx="8462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 a strong classroom librar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should have a wide variety of unleveled texts that children WANT to rea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tructuring you Classroo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806400" y="2082960"/>
            <a:ext cx="84628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students the self-selection proc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cuss how people go about selecting a boo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a “just right” book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 you know a book is right for you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o you do when you pick a just “right book”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o you do when a book isn’t a “just right book”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BOOKMAT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06400" y="1320840"/>
            <a:ext cx="84628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b200"/>
                </a:solidFill>
                <a:uFillTx/>
                <a:latin typeface="Arial"/>
              </a:rPr>
              <a:t>Lesson Pla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ok lengt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dinary Langu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K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nowledge Prior to the boo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nageable Tex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eal to gen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pic Appropriatenes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 Interes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hoosing a Text Se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806400" y="1320840"/>
            <a:ext cx="84628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purpose of the lesson for the text se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oose a theme or strand for the text set that relates to the the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what type of texts would be most appropriate to the purpose of the less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earch and gather texts- remember to use other professionals as a resource and to truncate websit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ember that texts can be defined broad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5960" y="727200"/>
            <a:ext cx="821196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quiry Proce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06400" y="1574640"/>
            <a:ext cx="8801280" cy="38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based on student curiosity, questions, 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 deeply into complex, authentic topics tha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responsibility with peer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roficient reader/thinker research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s on multigenre, multimedia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beyond fact-finding to synthesizing and applying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ly using knowledge: take action, share, g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kids’ learning to state and district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06400" y="2082960"/>
            <a:ext cx="84628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are posted on the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Arial"/>
              </a:rPr>
              <a:t>Wi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oal for Tod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a topic of Inqui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together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8880"/>
            <a:ext cx="803916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Level and Readability- Think/Pair/Sh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806400" y="2082960"/>
            <a:ext cx="8462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this mean to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s it used in your classroom? Your schoo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used to determine readability? (What tools do you know of and use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r School and Classroo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06400" y="2082960"/>
            <a:ext cx="8462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atters: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hildren need texts they can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e where you and your school fall in terms of texts and text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where you think you fall in each of the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Readabilit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82680" y="1488960"/>
            <a:ext cx="939456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Readability 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ifficulty level of the book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 selection in terms of grade leve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Why is it important to know thi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s need to help children select books that fall in their reading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s will assess students to determine their reading leve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s will determine the reading level of a text in order to match appropriate level books to the stud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Readability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2680" y="1488960"/>
            <a:ext cx="905508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ability is based on the following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 reading material becomes more difficult, the length of the words tend to become longe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nce reading material becomes more difficult according to grade level, it is possible to develop a scale which will reflect thi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eveling Tex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82680" y="1320840"/>
            <a:ext cx="922500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Arial"/>
              </a:rPr>
              <a:t>Smog Readability S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d Read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Arial"/>
              </a:rPr>
              <a:t>Online Resour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xile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 from 200L to 1700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many districts around the country and has been around for about 5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re assessed and given an “lexile sco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b2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Arial"/>
              </a:rPr>
              <a:t>Data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s the lexil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rticle Discuss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806400" y="2082960"/>
            <a:ext cx="84628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groups of 3, discuss th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ally Read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t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he discussion guide to record your thou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prepared for a whole group s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urn and Tal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06400" y="2082960"/>
            <a:ext cx="84628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entering a place where you have never been, all by yourself. What do you do, who or what do you look for or notice? Describe your feelings to your neighb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ami</cp:lastModifiedBy>
  <dcterms:modified xsi:type="dcterms:W3CDTF">2010-06-24T14:21:44Z</dcterms:modified>
  <cp:revision>1</cp:revision>
  <dc:subject/>
  <dc:title>PowerPoint Presentation</dc:title>
</cp:coreProperties>
</file>